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AD9-ED71-451B-9BEA-44932896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14E7-A4AE-4392-9196-76710BC1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86056-BEDD-4DA6-AF2C-C4E5B905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46364-2227-4606-A839-B06C2C93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0067A-3D6D-43FF-8885-4574A28C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B3017-2296-424E-8BEB-2E8809E7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8DD32-52EC-434A-9087-5BC93605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A07B3-553D-4F02-8501-4A50430F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625E1-52B5-44AF-B043-95EB34A3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28ED0-6FDF-4CE0-AB43-D871CCFE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879E2-FF0E-40F5-A92D-A446BB26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3129F-C501-4BE2-A103-61414746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F281-23AB-401E-A269-1AE3A809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70400-9B23-410F-AE70-9C2C4F18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0E510-7354-4A6B-95CB-BE861FB3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93945-EB57-4254-BEA9-D50BDB46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0CA6F-06C1-4598-B002-1E20A03F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B4375-A8F1-462C-A2E2-E7B2A93A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A0EEF-32A7-420E-AAB0-030B4C4A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55105-BC82-4FC3-ACD2-CC6C4907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210D5-8B58-4835-8DFA-54CCA297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A7E52-1C85-41DE-8304-42258CD4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E80E5-5C3A-46DD-B395-A544C246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6588-763D-42BD-89A4-5A84ACDE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E8E41-3D48-4F23-97F3-A30D4577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2E6CC-7200-4EF6-9087-8517FAA8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98FC1-18BB-4173-8588-7198C798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30199-6846-4BE3-9F86-24BD210B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A212A-3773-46E9-9E87-5A740942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6B026-D6B2-4D26-846C-E47FF05D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794D0-55AE-4D3C-8E7C-69BF3175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E5C6F-CC04-42FB-8D60-E83FE312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ADECE-3240-4842-85D4-8908D548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940C9-5F07-454C-B49B-43A65AD8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EF5B-4095-4D48-9C66-93536892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19581-B25E-4384-A833-59739068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ECD26-672A-463D-9D61-AEC7F781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3C41B-6080-4875-989A-ABFA8B5D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E745A-1963-41AB-8313-26F2DD7C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DC2C0-C72A-45D0-83D7-CB0601AB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72931-5BE4-45DE-909F-18C05877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6B9C5-F9A1-4182-A7D3-A5D3C1C0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B1C14-CCDD-4E80-85F8-F327A511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652A6-CBB7-46FA-9A4F-F4D4FA8B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24D6C-E1F8-489E-8380-3F564284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C4C6-D09E-462A-9CFE-18D1BF7C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6730B-31F6-4387-8A00-C5E35E87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3CB32-7855-44D1-86C5-BF1A376B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8C971-C280-4CAD-A453-A9AE505A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D22E9-5336-4809-A499-ADE8B5E9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51716-E57D-4644-819A-72264601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D3848-3A29-499A-9DCE-8C554AB7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7FAF24-B40C-4403-A20F-4A748CD6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FAE829-99BB-4678-AD02-6BB1F424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2A574-04B3-4848-878E-6B193E02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475C8D-463B-46CC-AE04-3B08DD3F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A939-2902-4D0F-9A82-21A45BE0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5EA1B-B272-476F-B31B-16B6B50E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9882F6-BB7E-4DE0-8351-F6324264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7DEA2E-F97D-4DA6-B226-3A69CB78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0CAE0E-CBC0-4A29-A5D7-80E1ECD9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EB1DD-41B1-4D92-B38B-1F55897A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C2DDBB-9B4F-4BEB-A3A2-8B56C3E2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5282B-A981-4DEE-9F21-F4B08239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A52608-CB8F-4785-8405-9421F33C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58D832-B77D-409D-81D0-4DC2822A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99402A-CBD7-4FA0-BCFD-C4835170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814D-C897-477F-B147-07BAFE57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DEA89B-D4DC-4C65-BFEC-BAB42518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ADC68D-87DF-480C-AE39-3649074A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AE3BA8-C4DD-42E2-85DE-EC03C40E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964166-33B1-40B8-9AE6-6E54FFDF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415D20-8D4A-4874-B0A1-C0DDE8D5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4B5F55-C7C8-45D9-9FD8-8BF28176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E000A8-9A50-46AC-9AF7-3028C556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DF0E9C-FC86-4EC2-831E-C32CAA3B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E8346A-5CA2-4044-9462-047FD1CD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C05767-AC78-49A9-993E-177C3575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92C1-3B8B-4AB8-A310-CB9D4418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C9E3E0-D8A8-42BF-BBBE-64AECCD9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68722B-2F5E-4637-94F7-4D0F7567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E6EAA0-79C8-4511-87CB-205C9D46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150FDC-46B9-4DE8-BFD2-4B9E3198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F1F289-2B95-4FC0-B1CB-B4A74E16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E8A485-B712-4C15-8E96-A9558BA5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841B02-1F2A-4D59-AB9A-F1A721AB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C4F08E-CC1B-4374-84FD-A2DE21C2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634107-5F4A-433F-A9ED-34B2410D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9B5F20-C3B2-41AB-AE7E-1E3DD060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E2C0-306B-4493-B61B-83E3BE41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86B0E4-526F-4DB0-8944-868A3D23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44DCF3-1F97-4E65-B2E3-80A4B41A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45418B-CC9A-4387-8B45-54CADE73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C5CE25-A073-4499-9219-97BC5C2B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83E363-8F02-4BF9-A852-CFD40AFE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B54490-D630-4BC9-A14E-FC6BC8BC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F0C55D-70A0-4521-BAB9-421A0F7A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7A7544-2311-4D3B-82D2-684FB96C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5CA398-97E3-415C-87B5-657B24E5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EBD207-0AA1-466A-BE3E-AEA20654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8357-AD84-4D00-9131-1E87BA45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4A9459-26F7-44E5-A217-4243DD65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3645ED-03D3-4784-8A4F-0E9772EF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00D3B2-36D3-493C-8386-8EB68397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B1CEE8-C9FB-4933-8A1F-4CED549C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33B81A-30DC-4A10-91CA-942C6F87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B29669-D2D4-4DA0-9C55-52139FAF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27AC71-593D-4BEC-ADE8-9EA01388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521CA0-B914-40D6-8491-7E260CC0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CBF1C9-32F0-45E8-9B66-B4209504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7C5C3C-3427-4FDC-9B93-88F6F1C7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12A6-BE76-4058-B154-C2572758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FDEE-64C1-48C4-A56E-33EC37AF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0A260C-5401-47F1-B26A-EF4DA8FC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A4452E-99AD-4ACC-8D18-7C8C1A8D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1ABBB2-7927-4FEA-830F-DAEC9392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F06DD2-27E2-4D46-BB8C-5C6BBDC3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64B272-7F48-47D0-B449-100FA480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A4992D-C320-4679-BD25-0386FD52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D3A4A5-1C2A-49EE-B875-F9982EC1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3F9430-21AD-44E3-B6BE-59EA9AF4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ADDB7D-3E8D-4554-AB6C-FA2ED37F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E6E0DE-25DE-4582-9A90-EC8F8DCE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099C-9C94-46AD-86DD-ED45F2B8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8DF0F7-8BED-47EC-B130-6CFF43CE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6166EE-069C-4A23-A1A3-7CA0115F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89F420-777F-473F-9FE3-DF9CB954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9F9F8B-16C9-400B-8A9F-AB3647C5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56BDF9-714C-4DA8-A0C1-A4231542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B41A2E-28D8-4194-BDB2-E97A5392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0461F0-6501-4A2D-BD65-F24BF732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A80765-68C5-44A2-AE81-802E79C5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FCDFE3-D645-4303-BC22-4352E8A9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F8D7B7-AC7A-410A-83AD-F282B59F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C00E-A53E-4B12-B74D-4A0FFA4E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456E1E-EC69-4F44-AD4A-3CE8EDEE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447703-5DFA-4970-A18C-73A6C557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291790-4F87-4057-83F5-F3774EE0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88AD5E-E55A-45F1-8615-0FD678B5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F5BA16-243D-4FEC-9642-4D394995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AACD07-2A4B-4BF7-9D01-543769D5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B489C7-107F-43E3-B697-3F2EF97B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B6CA29-1121-4491-9985-53318527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A400F1-E515-4364-BB80-9E477307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167F77-80C4-4A16-8660-E353B8C1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97F1-B15A-488F-B4BE-69FC84ED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1C7656-1D58-4A8A-AF0F-74CA7233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067973-2968-41D8-91C3-9293B6DB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08B109-3285-412F-95E3-D4BAADA3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522628-AF33-42C8-A3A2-A41B02E6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E769A7-B654-4ACA-9301-CA52B152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C5CB6A-6E45-4802-9886-C902B673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8BA6B2-ED1C-4439-92B6-0E46BB3E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0D5B62-09A1-4E0A-B2DF-9AF4E275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883CD8-EF99-4E6D-B501-CD800B78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5309BA-A0A8-4CC1-891A-7E7C7A77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0861-7CF7-42C2-A25D-B25713C2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3FE76A-51C8-4CA4-95DB-C792129A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34BEF3-D1D2-4435-B37F-B41F4CEE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72BA63-1420-4807-A65D-5F857C1F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C0A0B1-B07C-4D1E-968E-A9195B1D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4770A3-847B-4E58-9E4C-0B24995A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ED2904-4070-4F23-98A8-0F5D5B15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BCC833-C09C-4DB0-856B-F711B018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5F758C-C6EE-4480-A1A4-97070B85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3F1ED3-3FCB-4E32-9AF4-34AC8F41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622412-A925-440B-948E-DC67225F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4A463-8F09-4875-8496-46E8B2C6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35DCA5-78F0-48FC-9A6D-CD55AF46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15526D-93C3-4B39-AEFD-FDB42F54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DE815F-275B-47E5-A7DF-0CA067F3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E4F8A-F2B2-49DE-AEC2-6C9AD773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C236E-039C-42E2-85CF-C4A43039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E80D8-EF33-41BF-84F2-9CCA9A06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835FC-D01B-4785-B7EF-09399656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BD91-DFFE-40F9-80C4-F4350E83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83332-0B2A-4C9C-9DAD-B6860D1D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7EB48-71FC-45E6-8D0E-4B2F0FC5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9E194-CC2B-4110-B9BB-057206CE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46759-103D-4B87-B3E9-578F84DB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0F0E6-8D29-4540-8412-DBA7EC59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BDB49-BC87-47A2-8131-933BEE08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5F4ED-2E6E-4041-B519-EAF21882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FE21D-BA26-457E-B318-3300F3D1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9269A-8FF3-46E3-8DCF-9DAA975B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C605C-1066-4134-9006-DF92B36A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0CD0-4FBD-4A14-8C53-787F49A9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10BDD-0D00-464F-AF93-4D65CDB2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A94A3-4F56-445F-9BC8-554DEA92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2741D-0A5D-462B-ADEB-0C19BC34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FDCB3-97BD-4A62-A6E9-B89E6CA9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D1961-3BFD-49AB-AD1A-5002D15A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F72BE-F37F-4D4D-BAE9-D78072E6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27913-9330-4DAD-B4FC-8862984B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F8BF4-2865-4FFB-AA95-B96FF774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66D15-F145-4581-8C72-1A3F2DFF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A30EB-5D0E-471B-BBFA-12F1002D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BA42-CF40-4269-A4A8-BF30A431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0B633-708D-4B3B-A59D-2B60E207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E0B8A-1B42-4FF7-87BE-8541F6F2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8431F-6960-4B87-9EA8-2C4ABD39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8A1B8-E24F-414C-975E-844E15E9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C0212-AE4E-46D9-B091-EB9B2D54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2DC12-EC67-4F0E-92D5-D4839B22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4442B-78CE-40CE-ADF9-ABC3B215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C861D-78EE-44E5-83A0-B9C64D8D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17DC6-66C5-41FA-BA3B-B83405B5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03CFC-EAA8-4E2A-8F84-269837AE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58D7-C7A3-486B-B68F-8FC7214D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8A1CD-430F-4CB2-AC63-97E2769F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7F1B3-D16B-4951-BDCB-98BAACEE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0CC53-EB14-45A0-8A4F-453B77E0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9DE46-5823-4993-8AE4-7D52B533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491D8-879B-4B1C-B0EF-7A64302C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4BE74-EE23-4E4C-BBE3-66CA7E5A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DA766-2AB3-47F5-8C09-1B446D20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4CB3F-8D61-494F-91E0-4E940BEC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A75CC-1AE1-4C81-9616-E3D33B1A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73B8A-CD4F-487D-B264-0B71BFC9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B18E-5099-42EC-A802-94F5C407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5F1A8-7C05-451F-9F04-9A255A42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08DA9-4944-4C15-8DBA-1CF027DA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90C46-7EEE-4D4D-AFE5-E4E28D06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250B5-0295-4029-A74C-C68185C3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86979-6302-44F5-B4A7-BC0DCB34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97F56-0E5B-45DA-AFC0-28297A81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2EBC8-B1DC-41E3-A484-8832EF19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54CB7-396C-4C41-A1A8-BBDAA731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DCD35-EF34-4B19-B84E-AB4E98DE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B05F9-EC90-4717-842E-548585A1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0725-887E-43CC-A269-B253C2B5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AD5AB-5EBC-4B84-AAB4-4DBAC6B3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1EDB0-AD1E-4386-8B6A-6A1C854A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69548-FBE7-460A-82C3-8257BD55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CCFBF-2FDE-46D5-8CD2-35E984A7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3F454-CA09-4E29-982C-40297093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68751-DD27-433C-8F67-100E3954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DA22E-99CB-4947-AB96-244BD60E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A5ABF-D65D-4294-A2F1-91560D2F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77A8E-E4FD-455A-AC18-AB41E93D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CC000-1F20-4C55-8585-2F918F73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468E-F15A-4B9C-BFA7-B6E2D74E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2F83B-7CD7-4958-B555-2692FC07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80107-3DD1-4A83-BB4F-2B2C3238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89536-6DBF-4448-B046-894DB2E1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6038E-DCDD-481C-AFDD-D373CB13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E5D8B-9A75-4A20-B0A2-345905A9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8C72C-5D2F-4BAE-B2E4-D428303F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A9A60-28D0-4EC1-BF19-F5CFB5AB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23784-F3D7-4B90-A981-C13188F3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17DE5-B46A-49D9-A11B-02A5E67E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C2072-2937-46EC-B40D-FCD7F09E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2568-970C-4995-B1D5-58EB7BF4DC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9664-0D7A-4222-BBAF-5F819229EA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A140-A644-44CA-A1D7-11DE767140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7D90-8D7B-42B6-8015-BE42A10476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D115-3432-4F50-80F7-0779FF43C0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A4C1-DE90-494D-B2B4-691C7F9248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6CF9-6730-4D4C-9BFA-75483E996E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6C74-78CF-4F59-BCE7-06EC523769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BEED-6CE5-4432-B0AF-53CC3CAF6F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E71C-BED1-4552-952B-91C099BA1A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61B0-340D-4631-B060-DD38A110AD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12D0-AADC-4A05-B664-F43511AC9D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0CBB-A172-46CE-8AC7-D2CB2663F7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7852-7EE2-4D59-85E6-66A35730D0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2948-3440-4372-80C1-2D96B988D3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BCBA-672F-4129-AD20-6774A5F9DF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929C-7A94-4781-A5FC-7DC28F8316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EFC6-2921-4C18-9A88-051E60AF5E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D79A-7F9F-474B-AC6E-2868182D6C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DC82-0A20-44F8-866D-A51851DBE1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9FEA-AE1C-49F0-B049-71051B9A3D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E547-9B16-440F-81D3-D5E9835A27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2E95-5F2F-4651-B8C3-F9B2B97B72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F5AD-4243-4656-AD67-0001936440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F120-6CA8-449F-A472-AEF34EAE8B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2F01-83D7-4313-98AD-B26DF3DDEF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A577-FE8F-4070-9E31-70634AAE41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C17F-2D79-4D41-B8E8-2A1325AF8B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160A-8B59-487F-BCE1-9729A35C96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8F29-5534-4438-85C8-2784EE05C7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EA33-69E6-4E7F-A779-35F3C6395A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259A-DE65-4FFE-A407-31A1FAC85A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B95A-98C6-484C-8C84-2B21830505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DFAA-DC86-426E-8E13-EBA40C7331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15D7-BD1C-4882-9A85-30EA84D47D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08A1-A449-410E-A9DF-615C8E71BA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78EF-5855-4CEC-8897-FE1EABDB1A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2249-0249-43E6-BEEA-2BBB6734F9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F451-9DBE-498B-B0E2-A062DEA842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D3A9-5E4F-4B3B-A37D-B8B4482476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371600" y="2733840"/>
            <a:ext cx="6400800" cy="13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组合 60433"/>
          <p:cNvGrpSpPr/>
          <p:nvPr/>
        </p:nvGrpSpPr>
        <p:grpSpPr>
          <a:xfrm>
            <a:off x="490680" y="809640"/>
            <a:ext cx="8208720" cy="5259240"/>
            <a:chOff x="490680" y="809640"/>
            <a:chExt cx="8208720" cy="5259240"/>
          </a:xfrm>
        </p:grpSpPr>
        <p:pic>
          <p:nvPicPr>
            <p:cNvPr id="923" name="图片 60428" descr=""/>
            <p:cNvPicPr/>
            <p:nvPr/>
          </p:nvPicPr>
          <p:blipFill>
            <a:blip r:embed="rId1"/>
            <a:stretch/>
          </p:blipFill>
          <p:spPr>
            <a:xfrm>
              <a:off x="490680" y="809640"/>
              <a:ext cx="8162640" cy="523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图片 60432" descr=""/>
            <p:cNvPicPr/>
            <p:nvPr/>
          </p:nvPicPr>
          <p:blipFill>
            <a:blip r:embed="rId2"/>
            <a:stretch/>
          </p:blipFill>
          <p:spPr>
            <a:xfrm>
              <a:off x="1488960" y="4221000"/>
              <a:ext cx="7210440" cy="1847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2901960" y="32702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4514760" y="32418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7365960" y="3241800"/>
            <a:ext cx="289080" cy="257040"/>
          </a:xfrm>
          <a:prstGeom prst="rect">
            <a:avLst/>
          </a:prstGeom>
          <a:ln w="0">
            <a:noFill/>
          </a:ln>
        </p:spPr>
      </p:pic>
      <p:sp>
        <p:nvSpPr>
          <p:cNvPr id="928" name="椭圆 60434"/>
          <p:cNvSpPr/>
          <p:nvPr/>
        </p:nvSpPr>
        <p:spPr>
          <a:xfrm>
            <a:off x="1735200" y="4351320"/>
            <a:ext cx="792000" cy="7192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椭圆 60435"/>
          <p:cNvSpPr/>
          <p:nvPr/>
        </p:nvSpPr>
        <p:spPr>
          <a:xfrm>
            <a:off x="4168800" y="4321080"/>
            <a:ext cx="792000" cy="7192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椭圆 60436"/>
          <p:cNvSpPr/>
          <p:nvPr/>
        </p:nvSpPr>
        <p:spPr>
          <a:xfrm>
            <a:off x="5465880" y="4292640"/>
            <a:ext cx="792000" cy="71892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椭圆 60437"/>
          <p:cNvSpPr/>
          <p:nvPr/>
        </p:nvSpPr>
        <p:spPr>
          <a:xfrm>
            <a:off x="6673680" y="4307040"/>
            <a:ext cx="792360" cy="71892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椭圆 60438"/>
          <p:cNvSpPr/>
          <p:nvPr/>
        </p:nvSpPr>
        <p:spPr>
          <a:xfrm>
            <a:off x="1749600" y="5229360"/>
            <a:ext cx="792000" cy="71892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椭圆 60439"/>
          <p:cNvSpPr/>
          <p:nvPr/>
        </p:nvSpPr>
        <p:spPr>
          <a:xfrm>
            <a:off x="4211640" y="5243400"/>
            <a:ext cx="792000" cy="7192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椭圆 60440"/>
          <p:cNvSpPr/>
          <p:nvPr/>
        </p:nvSpPr>
        <p:spPr>
          <a:xfrm>
            <a:off x="5450040" y="5243400"/>
            <a:ext cx="792000" cy="7192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椭圆 60441"/>
          <p:cNvSpPr/>
          <p:nvPr/>
        </p:nvSpPr>
        <p:spPr>
          <a:xfrm>
            <a:off x="7812000" y="5229360"/>
            <a:ext cx="792360" cy="71892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9410" descr=""/>
          <p:cNvPicPr/>
          <p:nvPr/>
        </p:nvPicPr>
        <p:blipFill>
          <a:blip r:embed="rId1"/>
          <a:stretch/>
        </p:blipFill>
        <p:spPr>
          <a:xfrm>
            <a:off x="528480" y="731880"/>
            <a:ext cx="8087040" cy="60102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2421000" y="63914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图片 59412" descr=""/>
          <p:cNvPicPr/>
          <p:nvPr/>
        </p:nvPicPr>
        <p:blipFill>
          <a:blip r:embed="rId3"/>
          <a:stretch/>
        </p:blipFill>
        <p:spPr>
          <a:xfrm>
            <a:off x="1857240" y="1962000"/>
            <a:ext cx="6658200" cy="2419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4275000" y="6381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8008920" y="6391440"/>
            <a:ext cx="2890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35:14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